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D19-366E-4FA7-842A-08604585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ED2-9B35-4D6F-80DC-85B0872F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61E-0728-4845-93EA-49146292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A26F-2D11-4BF4-A1A0-59D44371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43AD-5691-424E-91E3-2FF9507C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207A-2689-4AF0-B075-B23ABFA0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79D1-60E2-4F0F-BB71-C2CE771A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1C6E-6916-4290-943B-313D841E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B697-EC07-417A-80EB-58AAA5F6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3DA3-260E-46FF-B560-465B17D1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AFB6-EDE5-48A2-B3EB-DE5282E2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F6F2-687B-45D1-A1D2-C36BFED9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C613-9582-4018-92F7-2D07A636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C257-E781-4E84-8644-3128928B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678A-ED4A-4797-A60E-BD2A7680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6BAA-B8EE-4663-A345-2C44E1AC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B34E-73FD-44CB-8652-5664C9A2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982-1147-4AA2-9928-8F3D417A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267-7318-4E71-9120-7597D462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C10-52C4-4E3F-A34D-0A0D7B80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D4D-3748-497D-B93C-C5F6C055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FF9-1BE1-499D-A27D-C43FA16B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F16-08C6-44F1-873D-B48AC210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C2B-0927-4859-95CE-1D576123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5271-BE40-4AFC-842F-E87D4D2AC72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827F-318A-4C4C-8263-66E06E1A1A8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99"/>
                </a:solidFill>
                <a:latin typeface="Garamond"/>
              </a:rPr>
              <a:t>The War in the Pacific</a:t>
            </a:r>
            <a:endParaRPr b="0" lang="en-US" sz="7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87" name="Picture 4" descr="pacifc"/>
          <p:cNvPicPr/>
          <p:nvPr/>
        </p:nvPicPr>
        <p:blipFill>
          <a:blip r:embed="rId1"/>
          <a:stretch/>
        </p:blipFill>
        <p:spPr>
          <a:xfrm>
            <a:off x="1600200" y="1447920"/>
            <a:ext cx="5842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Bombing of Japa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19" name="Picture 7" descr="780px-Tokyo_1945-3-10-1"/>
          <p:cNvPicPr/>
          <p:nvPr/>
        </p:nvPicPr>
        <p:blipFill>
          <a:blip r:embed="rId1"/>
          <a:stretch/>
        </p:blipFill>
        <p:spPr>
          <a:xfrm>
            <a:off x="152280" y="1143000"/>
            <a:ext cx="4343400" cy="334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" name="Picture 6" descr="800px-Tokyo_kushu_1945-3"/>
          <p:cNvPicPr/>
          <p:nvPr/>
        </p:nvPicPr>
        <p:blipFill>
          <a:blip r:embed="rId2"/>
          <a:stretch/>
        </p:blipFill>
        <p:spPr>
          <a:xfrm>
            <a:off x="4572000" y="1371600"/>
            <a:ext cx="4419720" cy="284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9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-29 bomber ra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945-end of war (seven 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night in M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square miles of Tokyo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3,000 Japanese ki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,000 inj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“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Europe First”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dn’t mean the Pacific was igno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6wii"/>
          <p:cNvPicPr/>
          <p:nvPr/>
        </p:nvPicPr>
        <p:blipFill>
          <a:blip r:embed="rId1"/>
          <a:stretch/>
        </p:blipFill>
        <p:spPr>
          <a:xfrm>
            <a:off x="1143000" y="1752480"/>
            <a:ext cx="69343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June 4, 1942: The Battle of Midwa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erican naval 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panese: take the island, establish military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.S. Navy code-break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idwayMap"/>
          <p:cNvPicPr/>
          <p:nvPr/>
        </p:nvPicPr>
        <p:blipFill>
          <a:blip r:embed="rId1"/>
          <a:stretch/>
        </p:blipFill>
        <p:spPr>
          <a:xfrm>
            <a:off x="4343400" y="1295280"/>
            <a:ext cx="46483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The Battle of Midwa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5" name="Picture 4" descr="battle-midway"/>
          <p:cNvPicPr/>
          <p:nvPr/>
        </p:nvPicPr>
        <p:blipFill>
          <a:blip r:embed="rId1"/>
          <a:stretch/>
        </p:blipFill>
        <p:spPr>
          <a:xfrm>
            <a:off x="228600" y="1752480"/>
            <a:ext cx="4419720" cy="3525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r att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Japanese aircraft carriers su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 air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enced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American aircraft carr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August 1942: Guadalcanal 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.S. Strateg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front w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west and central Pa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ture b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USMC-C-Guadalcanal-1"/>
          <p:cNvPicPr/>
          <p:nvPr/>
        </p:nvPicPr>
        <p:blipFill>
          <a:blip r:embed="rId1"/>
          <a:stretch/>
        </p:blipFill>
        <p:spPr>
          <a:xfrm>
            <a:off x="6172200" y="152280"/>
            <a:ext cx="2598840" cy="6400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USMC-C-Guadalcanal-map"/>
          <p:cNvPicPr/>
          <p:nvPr/>
        </p:nvPicPr>
        <p:blipFill>
          <a:blip r:embed="rId2"/>
          <a:stretch/>
        </p:blipFill>
        <p:spPr>
          <a:xfrm>
            <a:off x="609480" y="3505320"/>
            <a:ext cx="4114800" cy="3054240"/>
          </a:xfrm>
          <a:prstGeom prst="rect">
            <a:avLst/>
          </a:prstGeom>
          <a:ln w="0">
            <a:noFill/>
          </a:ln>
        </p:spPr>
      </p:pic>
      <p:sp>
        <p:nvSpPr>
          <p:cNvPr id="101" name="Oval 8"/>
          <p:cNvSpPr/>
          <p:nvPr/>
        </p:nvSpPr>
        <p:spPr>
          <a:xfrm>
            <a:off x="1905120" y="5562720"/>
            <a:ext cx="76176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“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sland-hopping” Strateg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03" name="Picture 7" descr="USA-WWII-2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565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“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sland-hopping”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05" name="Picture 7" descr="Kamikaze_zero"/>
          <p:cNvPicPr/>
          <p:nvPr/>
        </p:nvPicPr>
        <p:blipFill>
          <a:blip r:embed="rId1"/>
          <a:stretch/>
        </p:blipFill>
        <p:spPr>
          <a:xfrm>
            <a:off x="1828800" y="1066680"/>
            <a:ext cx="5562720" cy="45133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5562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ad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-and-death struggles against Japanese tr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mikaze pilots crashed into American 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8"/>
          <p:cNvSpPr/>
          <p:nvPr/>
        </p:nvSpPr>
        <p:spPr>
          <a:xfrm>
            <a:off x="2438280" y="1066680"/>
            <a:ext cx="1981440" cy="1219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February and March 1945: Iwo Jima 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09" name="Picture 7" descr="37mm_Gun_fires_against_cave_positions_at_Iwo_Jima"/>
          <p:cNvPicPr/>
          <p:nvPr/>
        </p:nvPicPr>
        <p:blipFill>
          <a:blip r:embed="rId1"/>
          <a:stretch/>
        </p:blipFill>
        <p:spPr>
          <a:xfrm>
            <a:off x="228600" y="4114800"/>
            <a:ext cx="2666880" cy="228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iwo3"/>
          <p:cNvPicPr/>
          <p:nvPr/>
        </p:nvPicPr>
        <p:blipFill>
          <a:blip r:embed="rId2"/>
          <a:stretch/>
        </p:blipFill>
        <p:spPr>
          <a:xfrm>
            <a:off x="152280" y="990720"/>
            <a:ext cx="178920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Iwo_Jima_2nd_flag"/>
          <p:cNvPicPr/>
          <p:nvPr/>
        </p:nvPicPr>
        <p:blipFill>
          <a:blip r:embed="rId3"/>
          <a:stretch/>
        </p:blipFill>
        <p:spPr>
          <a:xfrm>
            <a:off x="3809880" y="1066680"/>
            <a:ext cx="5105520" cy="45608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2"/>
          <p:cNvSpPr/>
          <p:nvPr/>
        </p:nvSpPr>
        <p:spPr>
          <a:xfrm>
            <a:off x="5029200" y="5791320"/>
            <a:ext cx="266688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 days of figh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,000 Marines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April 1945: Okinawa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14" name="Picture 7" descr="okinawa"/>
          <p:cNvPicPr/>
          <p:nvPr/>
        </p:nvPicPr>
        <p:blipFill>
          <a:blip r:embed="rId1"/>
          <a:stretch/>
        </p:blipFill>
        <p:spPr>
          <a:xfrm>
            <a:off x="5486400" y="15228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USMC-M-Okinawa-IFC"/>
          <p:cNvPicPr/>
          <p:nvPr/>
        </p:nvPicPr>
        <p:blipFill>
          <a:blip r:embed="rId2"/>
          <a:stretch/>
        </p:blipFill>
        <p:spPr>
          <a:xfrm>
            <a:off x="533520" y="990720"/>
            <a:ext cx="4140000" cy="4952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okinawa1"/>
          <p:cNvPicPr/>
          <p:nvPr/>
        </p:nvPicPr>
        <p:blipFill>
          <a:blip r:embed="rId3"/>
          <a:stretch/>
        </p:blipFill>
        <p:spPr>
          <a:xfrm>
            <a:off x="5486400" y="3276720"/>
            <a:ext cx="2906640" cy="3429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762120" y="6078600"/>
            <a:ext cx="35049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,000 troops, 1,213 wa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,000 casual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3:22:28Z</dcterms:created>
  <dc:creator>Owner</dc:creator>
  <dc:description/>
  <dc:language>en-US</dc:language>
  <cp:lastModifiedBy>hberndt</cp:lastModifiedBy>
  <dcterms:modified xsi:type="dcterms:W3CDTF">2010-04-08T12:39:48Z</dcterms:modified>
  <cp:revision>5</cp:revision>
  <dc:subject/>
  <dc:title>The War in the Pacific</dc:title>
</cp:coreProperties>
</file>